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843-9DC8-4B12-9868-A034E5E7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2E5-3028-407C-B8D0-C602860A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4D9-EFE0-4719-955F-E8E115EF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0C8-1E8F-4986-BF12-2A080426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4EE-E1A5-453A-ACCB-5216FB8E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B1E-5918-45D6-8A93-702C5BCE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2B7-3396-413C-A846-F5ACAFBE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661-38EF-464C-9F58-0D4671B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A90-F511-4AC9-B9FB-0726E60F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A78-A5EC-4269-B769-13DACC70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083-3E5F-460F-9F79-0DD1BE79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00D-D538-44BC-9027-F43DBC11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01CD-461A-4D78-96F9-746A205E4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Trigon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special Triangles and complete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116000" y="1773360"/>
            <a:ext cx="1224000" cy="1224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2072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5640" y="2854440"/>
            <a:ext cx="14436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3200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724000" y="1628640"/>
            <a:ext cx="1727640" cy="1368360"/>
            <a:chOff x="5724000" y="1628640"/>
            <a:chExt cx="1727640" cy="1368360"/>
          </a:xfrm>
        </p:grpSpPr>
        <p:sp>
          <p:nvSpPr>
            <p:cNvPr id="366" name=""/>
            <p:cNvSpPr/>
            <p:nvPr/>
          </p:nvSpPr>
          <p:spPr>
            <a:xfrm>
              <a:off x="6588000" y="1628640"/>
              <a:ext cx="863640" cy="1368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5723640" y="1628640"/>
              <a:ext cx="863640" cy="13683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588000" y="2854440"/>
            <a:ext cx="144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70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1440" y="1982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564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15280" y="2054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227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58560" y="3789000"/>
            <a:ext cx="3457800" cy="2664360"/>
            <a:chOff x="1258560" y="3789000"/>
            <a:chExt cx="3457800" cy="2664360"/>
          </a:xfrm>
        </p:grpSpPr>
        <p:sp>
          <p:nvSpPr>
            <p:cNvPr id="375" name=""/>
            <p:cNvSpPr/>
            <p:nvPr/>
          </p:nvSpPr>
          <p:spPr>
            <a:xfrm>
              <a:off x="2268360" y="429264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68360" y="501336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68360" y="5732640"/>
              <a:ext cx="792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9280" y="429264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59280" y="50133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59280" y="573264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51280" y="429264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51280" y="501336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51280" y="5732640"/>
              <a:ext cx="7920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11280" y="3860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03640" y="3860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95640" y="3860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405080" y="4394160"/>
                  <a:ext cx="863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1374840" y="5113440"/>
                  <a:ext cx="9205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1390680" y="5834160"/>
                  <a:ext cx="8920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x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"/>
            <p:cNvSpPr/>
            <p:nvPr/>
          </p:nvSpPr>
          <p:spPr>
            <a:xfrm flipH="1">
              <a:off x="1332000" y="4292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268360" y="378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19280" y="38354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332000" y="501336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258560" y="573408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258560" y="64533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059280" y="378900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851280" y="378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643280" y="37893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484360" y="4292640"/>
                <a:ext cx="290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40000" y="4268880"/>
                <a:ext cx="507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003560" y="4233960"/>
                <a:ext cx="484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340000" y="4970520"/>
                <a:ext cx="484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271680" y="4981680"/>
                <a:ext cx="5083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067280" y="5013360"/>
                <a:ext cx="290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384280" y="5661000"/>
                <a:ext cx="484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405240" y="5921280"/>
                <a:ext cx="1699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994200" y="5861160"/>
                <a:ext cx="434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9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following exac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651280" y="549000"/>
            <a:ext cx="3457800" cy="2669040"/>
            <a:chOff x="5651280" y="549000"/>
            <a:chExt cx="3457800" cy="2669040"/>
          </a:xfrm>
        </p:grpSpPr>
        <p:grpSp>
          <p:nvGrpSpPr>
            <p:cNvPr id="410" name=""/>
            <p:cNvGrpSpPr/>
            <p:nvPr/>
          </p:nvGrpSpPr>
          <p:grpSpPr>
            <a:xfrm>
              <a:off x="5651280" y="549000"/>
              <a:ext cx="3457800" cy="2664360"/>
              <a:chOff x="5651280" y="549000"/>
              <a:chExt cx="3457800" cy="2664360"/>
            </a:xfrm>
          </p:grpSpPr>
          <p:sp>
            <p:nvSpPr>
              <p:cNvPr id="411" name=""/>
              <p:cNvSpPr/>
              <p:nvPr/>
            </p:nvSpPr>
            <p:spPr>
              <a:xfrm>
                <a:off x="6661080" y="1052640"/>
                <a:ext cx="79236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61080" y="1773360"/>
                <a:ext cx="79236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61080" y="2492640"/>
                <a:ext cx="79236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52000" y="105264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52000" y="177336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52000" y="249264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244000" y="105264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244000" y="177336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44000" y="2492640"/>
                <a:ext cx="792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04000" y="620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596360" y="620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388360" y="620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5797800" y="1154160"/>
                    <a:ext cx="86328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4" name=""/>
                  <p:cNvSpPr txBox="1"/>
                  <p:nvPr/>
                </p:nvSpPr>
                <p:spPr>
                  <a:xfrm>
                    <a:off x="5767560" y="1873440"/>
                    <a:ext cx="92052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783400" y="2594160"/>
                    <a:ext cx="89208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6" name=""/>
              <p:cNvSpPr/>
              <p:nvPr/>
            </p:nvSpPr>
            <p:spPr>
              <a:xfrm flipH="1">
                <a:off x="5724720" y="1052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6661080" y="54936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12000" y="5954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5724720" y="17733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651280" y="2494080"/>
                <a:ext cx="115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5651280" y="3213360"/>
                <a:ext cx="10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7452000" y="549000"/>
                <a:ext cx="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8244000" y="54936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9036000" y="549360"/>
                <a:ext cx="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877080" y="1052640"/>
                  <a:ext cx="29052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7632720" y="1028880"/>
                  <a:ext cx="50796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8396280" y="993960"/>
                  <a:ext cx="48420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6732720" y="1730520"/>
                  <a:ext cx="48420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7664400" y="1741680"/>
                  <a:ext cx="50832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8460000" y="1773360"/>
                  <a:ext cx="29052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777000" y="2421000"/>
                  <a:ext cx="48420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7797960" y="2681280"/>
                  <a:ext cx="16992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3" name=""/>
                <p:cNvSpPr txBox="1"/>
                <p:nvPr/>
              </p:nvSpPr>
              <p:spPr>
                <a:xfrm>
                  <a:off x="8386920" y="2621160"/>
                  <a:ext cx="4348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4" name=""/>
          <p:cNvSpPr/>
          <p:nvPr/>
        </p:nvSpPr>
        <p:spPr>
          <a:xfrm>
            <a:off x="1044720" y="19098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1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64000" y="1909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 31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1280" y="4357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3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92360" y="4357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 69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42160" y="43578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-9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4145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n (180 – 30)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95280" y="765000"/>
            <a:ext cx="1079640" cy="1008000"/>
            <a:chOff x="395280" y="765000"/>
            <a:chExt cx="1079640" cy="1008000"/>
          </a:xfrm>
        </p:grpSpPr>
        <p:sp>
          <p:nvSpPr>
            <p:cNvPr id="451" name=""/>
            <p:cNvSpPr/>
            <p:nvPr/>
          </p:nvSpPr>
          <p:spPr>
            <a:xfrm>
              <a:off x="898560" y="765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5280" y="12697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43280" y="76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5280" y="76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5280" y="1334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43280" y="1334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971640" y="29113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 Sin 3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332000" y="334980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90920" y="24084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an (360 – 45)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90920" y="29052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 Tan 45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78200" y="33433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1280" y="49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s (360 – 60)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1280" y="54388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 Cos 6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71640" y="587700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19640" y="49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an 33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19640" y="57992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 tan 3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64000" y="616572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19640" y="53672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an (360 – 30)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38920" y="49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n 270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227640" y="5373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524720" y="4581000"/>
            <a:ext cx="1224000" cy="995760"/>
            <a:chOff x="7524720" y="4581000"/>
            <a:chExt cx="1224000" cy="995760"/>
          </a:xfrm>
        </p:grpSpPr>
        <p:sp>
          <p:nvSpPr>
            <p:cNvPr id="472" name=""/>
            <p:cNvSpPr/>
            <p:nvPr/>
          </p:nvSpPr>
          <p:spPr>
            <a:xfrm>
              <a:off x="7596360" y="4581360"/>
              <a:ext cx="936360" cy="995400"/>
            </a:xfrm>
            <a:custGeom>
              <a:avLst/>
              <a:gdLst/>
              <a:ahLst/>
              <a:rect l="l" t="t" r="r" b="b"/>
              <a:pathLst>
                <a:path w="590" h="627">
                  <a:moveTo>
                    <a:pt x="0" y="317"/>
                  </a:moveTo>
                  <a:cubicBezTo>
                    <a:pt x="57" y="158"/>
                    <a:pt x="114" y="0"/>
                    <a:pt x="182" y="45"/>
                  </a:cubicBezTo>
                  <a:cubicBezTo>
                    <a:pt x="250" y="90"/>
                    <a:pt x="340" y="551"/>
                    <a:pt x="408" y="589"/>
                  </a:cubicBezTo>
                  <a:cubicBezTo>
                    <a:pt x="476" y="627"/>
                    <a:pt x="533" y="449"/>
                    <a:pt x="590" y="2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24720" y="50846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596360" y="4581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44000" y="504684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9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1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4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4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ratic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bolas and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of the following by facto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7492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x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92720" y="907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x – 8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76360" y="371628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03280" y="1459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(x – 5)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98560" y="1916280"/>
            <a:ext cx="2736720" cy="794520"/>
            <a:chOff x="898560" y="1916280"/>
            <a:chExt cx="2736720" cy="794520"/>
          </a:xfrm>
        </p:grpSpPr>
        <p:sp>
          <p:nvSpPr>
            <p:cNvPr id="484" name=""/>
            <p:cNvSpPr/>
            <p:nvPr/>
          </p:nvSpPr>
          <p:spPr>
            <a:xfrm>
              <a:off x="898560" y="2251080"/>
              <a:ext cx="27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 = 0   or x – 5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258560" y="1916280"/>
              <a:ext cx="288720" cy="43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23640" y="1916280"/>
              <a:ext cx="431640" cy="43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116000" y="28274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0 and x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48360" y="1459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x – 4 )(x + 2)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932360" y="1844640"/>
            <a:ext cx="3600360" cy="794520"/>
            <a:chOff x="4932360" y="1844640"/>
            <a:chExt cx="3600360" cy="794520"/>
          </a:xfrm>
        </p:grpSpPr>
        <p:sp>
          <p:nvSpPr>
            <p:cNvPr id="490" name=""/>
            <p:cNvSpPr/>
            <p:nvPr/>
          </p:nvSpPr>
          <p:spPr>
            <a:xfrm>
              <a:off x="4932360" y="217944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 – 4 = 0  or x + 2 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508360" y="1844640"/>
              <a:ext cx="1440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59280" y="1844640"/>
              <a:ext cx="28872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5292720" y="28274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4 and x 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76360" y="41940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6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87280" y="46990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x – 8 )(x + 8)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971640" y="5156280"/>
            <a:ext cx="3600360" cy="794520"/>
            <a:chOff x="971640" y="5156280"/>
            <a:chExt cx="3600360" cy="794520"/>
          </a:xfrm>
        </p:grpSpPr>
        <p:sp>
          <p:nvSpPr>
            <p:cNvPr id="497" name=""/>
            <p:cNvSpPr/>
            <p:nvPr/>
          </p:nvSpPr>
          <p:spPr>
            <a:xfrm>
              <a:off x="971640" y="549108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 – 8 = 0  or x + 8 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1547640" y="5156280"/>
              <a:ext cx="1440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98560" y="5156280"/>
              <a:ext cx="28872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47492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8 and x = 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92720" y="3645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6 = 15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48360" y="4653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x – 16 )(x + 1)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075280" y="5038560"/>
            <a:ext cx="3600360" cy="794520"/>
            <a:chOff x="5075280" y="5038560"/>
            <a:chExt cx="3600360" cy="794520"/>
          </a:xfrm>
        </p:grpSpPr>
        <p:sp>
          <p:nvSpPr>
            <p:cNvPr id="504" name=""/>
            <p:cNvSpPr/>
            <p:nvPr/>
          </p:nvSpPr>
          <p:spPr>
            <a:xfrm>
              <a:off x="5075280" y="5373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 – 16 = 0  or x + 1 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5651280" y="5038560"/>
              <a:ext cx="14400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02200" y="5038560"/>
              <a:ext cx="28872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5292720" y="6021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16 and x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92720" y="41241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5x – 16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9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9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4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4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68360" y="16034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1x + 1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55640" y="3403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2x + 3)(x + 4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79280" y="2252520"/>
            <a:ext cx="1008000" cy="863640"/>
            <a:chOff x="179280" y="2252520"/>
            <a:chExt cx="1008000" cy="863640"/>
          </a:xfrm>
        </p:grpSpPr>
        <p:sp>
          <p:nvSpPr>
            <p:cNvPr id="512" name=""/>
            <p:cNvSpPr/>
            <p:nvPr/>
          </p:nvSpPr>
          <p:spPr>
            <a:xfrm>
              <a:off x="682560" y="2252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9280" y="2684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52360" y="2325600"/>
            <a:ext cx="792000" cy="720720"/>
            <a:chOff x="252360" y="2325600"/>
            <a:chExt cx="792000" cy="720720"/>
          </a:xfrm>
        </p:grpSpPr>
        <p:sp>
          <p:nvSpPr>
            <p:cNvPr id="515" name=""/>
            <p:cNvSpPr/>
            <p:nvPr/>
          </p:nvSpPr>
          <p:spPr>
            <a:xfrm>
              <a:off x="25236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236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84360" y="2325600"/>
            <a:ext cx="792000" cy="720720"/>
            <a:chOff x="684360" y="2325600"/>
            <a:chExt cx="792000" cy="720720"/>
          </a:xfrm>
        </p:grpSpPr>
        <p:sp>
          <p:nvSpPr>
            <p:cNvPr id="518" name=""/>
            <p:cNvSpPr/>
            <p:nvPr/>
          </p:nvSpPr>
          <p:spPr>
            <a:xfrm>
              <a:off x="68436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436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403280" y="2252520"/>
            <a:ext cx="1008000" cy="863640"/>
            <a:chOff x="1403280" y="2252520"/>
            <a:chExt cx="1008000" cy="863640"/>
          </a:xfrm>
        </p:grpSpPr>
        <p:sp>
          <p:nvSpPr>
            <p:cNvPr id="521" name=""/>
            <p:cNvSpPr/>
            <p:nvPr/>
          </p:nvSpPr>
          <p:spPr>
            <a:xfrm>
              <a:off x="1906560" y="2252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03280" y="2684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476360" y="2325600"/>
            <a:ext cx="792000" cy="720720"/>
            <a:chOff x="1476360" y="2325600"/>
            <a:chExt cx="792000" cy="720720"/>
          </a:xfrm>
        </p:grpSpPr>
        <p:sp>
          <p:nvSpPr>
            <p:cNvPr id="524" name=""/>
            <p:cNvSpPr/>
            <p:nvPr/>
          </p:nvSpPr>
          <p:spPr>
            <a:xfrm>
              <a:off x="147636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7636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908000" y="2325600"/>
            <a:ext cx="792000" cy="720720"/>
            <a:chOff x="1908000" y="2325600"/>
            <a:chExt cx="792000" cy="720720"/>
          </a:xfrm>
        </p:grpSpPr>
        <p:sp>
          <p:nvSpPr>
            <p:cNvPr id="527" name=""/>
            <p:cNvSpPr/>
            <p:nvPr/>
          </p:nvSpPr>
          <p:spPr>
            <a:xfrm>
              <a:off x="190800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0800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556000" y="2252520"/>
            <a:ext cx="1008000" cy="863640"/>
            <a:chOff x="2556000" y="2252520"/>
            <a:chExt cx="1008000" cy="863640"/>
          </a:xfrm>
        </p:grpSpPr>
        <p:sp>
          <p:nvSpPr>
            <p:cNvPr id="530" name=""/>
            <p:cNvSpPr/>
            <p:nvPr/>
          </p:nvSpPr>
          <p:spPr>
            <a:xfrm>
              <a:off x="3059280" y="22525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56000" y="26841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629080" y="2325600"/>
            <a:ext cx="792000" cy="720720"/>
            <a:chOff x="2629080" y="2325600"/>
            <a:chExt cx="792000" cy="720720"/>
          </a:xfrm>
        </p:grpSpPr>
        <p:sp>
          <p:nvSpPr>
            <p:cNvPr id="533" name=""/>
            <p:cNvSpPr/>
            <p:nvPr/>
          </p:nvSpPr>
          <p:spPr>
            <a:xfrm>
              <a:off x="262908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2908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987640" y="2325600"/>
            <a:ext cx="792000" cy="720720"/>
            <a:chOff x="2987640" y="2325600"/>
            <a:chExt cx="792000" cy="720720"/>
          </a:xfrm>
        </p:grpSpPr>
        <p:sp>
          <p:nvSpPr>
            <p:cNvPr id="536" name=""/>
            <p:cNvSpPr/>
            <p:nvPr/>
          </p:nvSpPr>
          <p:spPr>
            <a:xfrm>
              <a:off x="2987640" y="23256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87640" y="26780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of the following by facto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291280" y="1557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13x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80000" y="39798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)(x + 5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003640" y="2828880"/>
            <a:ext cx="1008000" cy="863640"/>
            <a:chOff x="5003640" y="2828880"/>
            <a:chExt cx="1008000" cy="863640"/>
          </a:xfrm>
        </p:grpSpPr>
        <p:sp>
          <p:nvSpPr>
            <p:cNvPr id="542" name=""/>
            <p:cNvSpPr/>
            <p:nvPr/>
          </p:nvSpPr>
          <p:spPr>
            <a:xfrm>
              <a:off x="5506920" y="2828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03640" y="3260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076720" y="2901960"/>
            <a:ext cx="792000" cy="720720"/>
            <a:chOff x="5076720" y="2901960"/>
            <a:chExt cx="792000" cy="720720"/>
          </a:xfrm>
        </p:grpSpPr>
        <p:sp>
          <p:nvSpPr>
            <p:cNvPr id="545" name=""/>
            <p:cNvSpPr/>
            <p:nvPr/>
          </p:nvSpPr>
          <p:spPr>
            <a:xfrm>
              <a:off x="507672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7672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508720" y="2901960"/>
            <a:ext cx="792000" cy="720720"/>
            <a:chOff x="5508720" y="2901960"/>
            <a:chExt cx="792000" cy="720720"/>
          </a:xfrm>
        </p:grpSpPr>
        <p:sp>
          <p:nvSpPr>
            <p:cNvPr id="548" name=""/>
            <p:cNvSpPr/>
            <p:nvPr/>
          </p:nvSpPr>
          <p:spPr>
            <a:xfrm>
              <a:off x="550872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0872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227640" y="2828880"/>
            <a:ext cx="1008000" cy="863640"/>
            <a:chOff x="6227640" y="2828880"/>
            <a:chExt cx="1008000" cy="863640"/>
          </a:xfrm>
        </p:grpSpPr>
        <p:sp>
          <p:nvSpPr>
            <p:cNvPr id="551" name=""/>
            <p:cNvSpPr/>
            <p:nvPr/>
          </p:nvSpPr>
          <p:spPr>
            <a:xfrm>
              <a:off x="6730920" y="2828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27640" y="3260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300720" y="2901960"/>
            <a:ext cx="792000" cy="720720"/>
            <a:chOff x="6300720" y="2901960"/>
            <a:chExt cx="792000" cy="720720"/>
          </a:xfrm>
        </p:grpSpPr>
        <p:sp>
          <p:nvSpPr>
            <p:cNvPr id="554" name=""/>
            <p:cNvSpPr/>
            <p:nvPr/>
          </p:nvSpPr>
          <p:spPr>
            <a:xfrm>
              <a:off x="630072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0072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732720" y="2901960"/>
            <a:ext cx="792000" cy="720720"/>
            <a:chOff x="6732720" y="2901960"/>
            <a:chExt cx="792000" cy="720720"/>
          </a:xfrm>
        </p:grpSpPr>
        <p:sp>
          <p:nvSpPr>
            <p:cNvPr id="557" name=""/>
            <p:cNvSpPr/>
            <p:nvPr/>
          </p:nvSpPr>
          <p:spPr>
            <a:xfrm>
              <a:off x="673272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3272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7380360" y="2828880"/>
            <a:ext cx="1008000" cy="863640"/>
            <a:chOff x="7380360" y="2828880"/>
            <a:chExt cx="1008000" cy="863640"/>
          </a:xfrm>
        </p:grpSpPr>
        <p:sp>
          <p:nvSpPr>
            <p:cNvPr id="560" name=""/>
            <p:cNvSpPr/>
            <p:nvPr/>
          </p:nvSpPr>
          <p:spPr>
            <a:xfrm>
              <a:off x="7883640" y="2828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80360" y="32605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7453440" y="2901960"/>
            <a:ext cx="792000" cy="720720"/>
            <a:chOff x="7453440" y="2901960"/>
            <a:chExt cx="792000" cy="720720"/>
          </a:xfrm>
        </p:grpSpPr>
        <p:sp>
          <p:nvSpPr>
            <p:cNvPr id="563" name=""/>
            <p:cNvSpPr/>
            <p:nvPr/>
          </p:nvSpPr>
          <p:spPr>
            <a:xfrm>
              <a:off x="745344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5344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7812000" y="2901960"/>
            <a:ext cx="792000" cy="720720"/>
            <a:chOff x="7812000" y="2901960"/>
            <a:chExt cx="792000" cy="720720"/>
          </a:xfrm>
        </p:grpSpPr>
        <p:sp>
          <p:nvSpPr>
            <p:cNvPr id="566" name=""/>
            <p:cNvSpPr/>
            <p:nvPr/>
          </p:nvSpPr>
          <p:spPr>
            <a:xfrm>
              <a:off x="7812000" y="2901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12000" y="32544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219640" y="217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13x – 1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395280" y="3860640"/>
            <a:ext cx="3600360" cy="748800"/>
            <a:chOff x="395280" y="3860640"/>
            <a:chExt cx="3600360" cy="748800"/>
          </a:xfrm>
        </p:grpSpPr>
        <p:sp>
          <p:nvSpPr>
            <p:cNvPr id="570" name=""/>
            <p:cNvSpPr/>
            <p:nvPr/>
          </p:nvSpPr>
          <p:spPr>
            <a:xfrm>
              <a:off x="395280" y="414972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Arial"/>
                </a:rPr>
                <a:t>2x + 3 = 0 or  x + 4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971280" y="3860640"/>
              <a:ext cx="4316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40000" y="3860640"/>
              <a:ext cx="28728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11280" y="484344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 = -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 and x =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219640" y="4581360"/>
            <a:ext cx="3600360" cy="748800"/>
            <a:chOff x="5219640" y="4581360"/>
            <a:chExt cx="3600360" cy="748800"/>
          </a:xfrm>
        </p:grpSpPr>
        <p:sp>
          <p:nvSpPr>
            <p:cNvPr id="575" name=""/>
            <p:cNvSpPr/>
            <p:nvPr/>
          </p:nvSpPr>
          <p:spPr>
            <a:xfrm>
              <a:off x="5219640" y="487044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Arial"/>
                </a:rPr>
                <a:t>3x </a:t>
              </a:r>
              <a:r>
                <a:rPr b="0" lang="en-GB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0" lang="en-GB" sz="2400" spc="-1" strike="noStrike">
                  <a:solidFill>
                    <a:srgbClr val="333399"/>
                  </a:solidFill>
                  <a:latin typeface="Arial"/>
                </a:rPr>
                <a:t> 2 = 0 or  x + 5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795640" y="4581360"/>
              <a:ext cx="43164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64360" y="4581360"/>
              <a:ext cx="287280" cy="360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435640" y="549288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 = 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 and x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correct to 1 d.p.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360" y="83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2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3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75280" y="83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6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4000" y="14382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2, b= -3, c =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9640" y="2085840"/>
                <a:ext cx="2230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8360" y="3014640"/>
                <a:ext cx="33876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322280" y="4030560"/>
                <a:ext cx="16653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684360" y="4917960"/>
                <a:ext cx="31320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82692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1128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-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075280" y="1316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x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856040" y="20383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, b= -2, c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072040" y="2685960"/>
                <a:ext cx="2230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240160" y="3614760"/>
                <a:ext cx="2907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5759280" y="4702320"/>
                <a:ext cx="1692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910040" y="5805360"/>
                <a:ext cx="3694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No real solution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9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7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1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1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3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correct to 1 d.p.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8360" y="83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+ 2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75280" y="83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9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5x </a:t>
            </a:r>
            <a:r>
              <a:rPr b="0" lang="en-GB" sz="2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2x</a:t>
            </a:r>
            <a:r>
              <a:rPr b="0" lang="en-GB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4000" y="14382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3, b= 2, c = 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39640" y="2085840"/>
                <a:ext cx="2230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640" y="3029040"/>
                <a:ext cx="31892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181160" y="4030560"/>
                <a:ext cx="19479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03200" y="4917960"/>
                <a:ext cx="36957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82692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1128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-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56040" y="1459080"/>
            <a:ext cx="33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-2, b= -5, c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5072040" y="1989000"/>
                <a:ext cx="2230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000760" y="2917800"/>
                <a:ext cx="3386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689440" y="4005360"/>
                <a:ext cx="18338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5234040" y="4917960"/>
                <a:ext cx="31878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29272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-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77080" y="599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1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2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77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9" dur="770" fill="hold"/>
                                        <p:tgtEl>
                                          <p:spTgt spid="6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1" dur="77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3" dur="77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area of the Rectangle determine x and the dimensions of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075280" y="1773360"/>
            <a:ext cx="3313080" cy="1406880"/>
            <a:chOff x="5075280" y="1773360"/>
            <a:chExt cx="3313080" cy="1406880"/>
          </a:xfrm>
        </p:grpSpPr>
        <p:sp>
          <p:nvSpPr>
            <p:cNvPr id="614" name=""/>
            <p:cNvSpPr/>
            <p:nvPr/>
          </p:nvSpPr>
          <p:spPr>
            <a:xfrm>
              <a:off x="5075280" y="1773360"/>
              <a:ext cx="2160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22920" y="278136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 +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37440" y="206064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– 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92720" y="206064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ea = 52 c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611280" y="1557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2x + 1)(x – 2) 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1280" y="2087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4x + x – 2 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1280" y="2592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x – 2 =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1280" y="30495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x – 5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395280" y="3887640"/>
            <a:ext cx="1008000" cy="863640"/>
            <a:chOff x="395280" y="3887640"/>
            <a:chExt cx="1008000" cy="863640"/>
          </a:xfrm>
        </p:grpSpPr>
        <p:sp>
          <p:nvSpPr>
            <p:cNvPr id="623" name=""/>
            <p:cNvSpPr/>
            <p:nvPr/>
          </p:nvSpPr>
          <p:spPr>
            <a:xfrm>
              <a:off x="898560" y="3887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5280" y="4319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68360" y="3960720"/>
            <a:ext cx="792000" cy="720720"/>
            <a:chOff x="468360" y="3960720"/>
            <a:chExt cx="792000" cy="720720"/>
          </a:xfrm>
        </p:grpSpPr>
        <p:sp>
          <p:nvSpPr>
            <p:cNvPr id="626" name=""/>
            <p:cNvSpPr/>
            <p:nvPr/>
          </p:nvSpPr>
          <p:spPr>
            <a:xfrm>
              <a:off x="468360" y="3960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8360" y="431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900000" y="3960720"/>
            <a:ext cx="792000" cy="720720"/>
            <a:chOff x="900000" y="3960720"/>
            <a:chExt cx="792000" cy="720720"/>
          </a:xfrm>
        </p:grpSpPr>
        <p:sp>
          <p:nvSpPr>
            <p:cNvPr id="629" name=""/>
            <p:cNvSpPr/>
            <p:nvPr/>
          </p:nvSpPr>
          <p:spPr>
            <a:xfrm>
              <a:off x="900000" y="3960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00000" y="431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19280" y="3887640"/>
            <a:ext cx="1008000" cy="863640"/>
            <a:chOff x="1619280" y="3887640"/>
            <a:chExt cx="1008000" cy="863640"/>
          </a:xfrm>
        </p:grpSpPr>
        <p:sp>
          <p:nvSpPr>
            <p:cNvPr id="632" name=""/>
            <p:cNvSpPr/>
            <p:nvPr/>
          </p:nvSpPr>
          <p:spPr>
            <a:xfrm>
              <a:off x="2122560" y="3887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19280" y="4319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692360" y="3960720"/>
            <a:ext cx="792000" cy="720720"/>
            <a:chOff x="1692360" y="3960720"/>
            <a:chExt cx="792000" cy="720720"/>
          </a:xfrm>
        </p:grpSpPr>
        <p:sp>
          <p:nvSpPr>
            <p:cNvPr id="635" name=""/>
            <p:cNvSpPr/>
            <p:nvPr/>
          </p:nvSpPr>
          <p:spPr>
            <a:xfrm>
              <a:off x="1692360" y="3960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92360" y="431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124000" y="3960720"/>
            <a:ext cx="792000" cy="720720"/>
            <a:chOff x="2124000" y="3960720"/>
            <a:chExt cx="792000" cy="720720"/>
          </a:xfrm>
        </p:grpSpPr>
        <p:sp>
          <p:nvSpPr>
            <p:cNvPr id="638" name=""/>
            <p:cNvSpPr/>
            <p:nvPr/>
          </p:nvSpPr>
          <p:spPr>
            <a:xfrm>
              <a:off x="2124000" y="3960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24000" y="431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611280" y="487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2x + 9)(x – 6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5472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x + 9 = 0  or  x –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55640" y="597528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-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r x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350028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6 as you can’t have a negativ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319640" y="46530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mensions are 13 cm by 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0" dur="indefinite" restart="never" nodeType="tmRoot">
          <p:childTnLst>
            <p:seq>
              <p:cTn id="2311" dur="indefinite" nodeType="mainSeq">
                <p:childTnLst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1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ing Parabolas y = 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x +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948360" y="765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506920" y="2492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15240" y="2997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58800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531280" y="2421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5280" y="1700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Y-intercept when 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6588000" y="2467080"/>
            <a:ext cx="1368360" cy="71280"/>
            <a:chOff x="6588000" y="2467080"/>
            <a:chExt cx="1368360" cy="71280"/>
          </a:xfrm>
        </p:grpSpPr>
        <p:sp>
          <p:nvSpPr>
            <p:cNvPr id="653" name=""/>
            <p:cNvSpPr/>
            <p:nvPr/>
          </p:nvSpPr>
          <p:spPr>
            <a:xfrm>
              <a:off x="6588000" y="246708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84720" y="246708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395280" y="21258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 X-intercept (roots) when 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257960" y="83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5280" y="249228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 Axis of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97480" y="1844640"/>
            <a:ext cx="1946520" cy="1368360"/>
          </a:xfrm>
          <a:custGeom>
            <a:avLst/>
            <a:gdLst/>
            <a:ahLst/>
            <a:rect l="l" t="t" r="r" b="b"/>
            <a:pathLst>
              <a:path w="1452" h="499">
                <a:moveTo>
                  <a:pt x="0" y="0"/>
                </a:moveTo>
                <a:cubicBezTo>
                  <a:pt x="242" y="249"/>
                  <a:pt x="484" y="499"/>
                  <a:pt x="726" y="499"/>
                </a:cubicBezTo>
                <a:cubicBezTo>
                  <a:pt x="968" y="499"/>
                  <a:pt x="1210" y="249"/>
                  <a:pt x="14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223040" y="31798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5280" y="29178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  Turn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95280" y="1196640"/>
            <a:ext cx="4248000" cy="503640"/>
            <a:chOff x="395280" y="1196640"/>
            <a:chExt cx="4248000" cy="503640"/>
          </a:xfrm>
        </p:grpSpPr>
        <p:sp>
          <p:nvSpPr>
            <p:cNvPr id="662" name=""/>
            <p:cNvSpPr/>
            <p:nvPr/>
          </p:nvSpPr>
          <p:spPr>
            <a:xfrm>
              <a:off x="395280" y="1197000"/>
              <a:ext cx="42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 Shape +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-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84360" y="1268280"/>
              <a:ext cx="432000" cy="43200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852720" y="1196280"/>
              <a:ext cx="43200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5" dur="indefinite" restart="never" nodeType="tmRoot">
          <p:childTnLst>
            <p:seq>
              <p:cTn id="2476" dur="indefinite" nodeType="mainSeq">
                <p:childTnLst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1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2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8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6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2" dur="5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1  Sketch 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948360" y="765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06920" y="2492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8800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31280" y="2421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5280" y="14778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Y-intercept when 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5280" y="23414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 X-intercept (roots) when 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5280" y="39974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 Axis of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297480" y="1844640"/>
            <a:ext cx="1946520" cy="1368360"/>
          </a:xfrm>
          <a:custGeom>
            <a:avLst/>
            <a:gdLst/>
            <a:ahLst/>
            <a:rect l="l" t="t" r="r" b="b"/>
            <a:pathLst>
              <a:path w="1452" h="499">
                <a:moveTo>
                  <a:pt x="0" y="0"/>
                </a:moveTo>
                <a:cubicBezTo>
                  <a:pt x="242" y="249"/>
                  <a:pt x="484" y="499"/>
                  <a:pt x="726" y="499"/>
                </a:cubicBezTo>
                <a:cubicBezTo>
                  <a:pt x="968" y="499"/>
                  <a:pt x="1210" y="249"/>
                  <a:pt x="14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5280" y="5294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  Turn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95280" y="907560"/>
            <a:ext cx="4248000" cy="503640"/>
            <a:chOff x="395280" y="907560"/>
            <a:chExt cx="4248000" cy="503640"/>
          </a:xfrm>
        </p:grpSpPr>
        <p:sp>
          <p:nvSpPr>
            <p:cNvPr id="676" name=""/>
            <p:cNvSpPr/>
            <p:nvPr/>
          </p:nvSpPr>
          <p:spPr>
            <a:xfrm>
              <a:off x="395280" y="907920"/>
              <a:ext cx="42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 Shape +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-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84360" y="979200"/>
              <a:ext cx="432000" cy="43200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852720" y="907200"/>
              <a:ext cx="43200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826920" y="1916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0 – 0 –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916360" y="19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0,–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2840040"/>
            <a:ext cx="433440" cy="337320"/>
            <a:chOff x="6553080" y="2840040"/>
            <a:chExt cx="433440" cy="337320"/>
          </a:xfrm>
        </p:grpSpPr>
        <p:sp>
          <p:nvSpPr>
            <p:cNvPr id="682" name=""/>
            <p:cNvSpPr/>
            <p:nvPr/>
          </p:nvSpPr>
          <p:spPr>
            <a:xfrm>
              <a:off x="6915240" y="29844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3080" y="2840040"/>
              <a:ext cx="43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6920" y="2708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2x – 8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5640" y="31035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x – 4)(x + 2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55640" y="34639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 and x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431040" y="2470320"/>
            <a:ext cx="1774800" cy="408600"/>
            <a:chOff x="6431040" y="2470320"/>
            <a:chExt cx="1774800" cy="408600"/>
          </a:xfrm>
        </p:grpSpPr>
        <p:grpSp>
          <p:nvGrpSpPr>
            <p:cNvPr id="688" name=""/>
            <p:cNvGrpSpPr/>
            <p:nvPr/>
          </p:nvGrpSpPr>
          <p:grpSpPr>
            <a:xfrm>
              <a:off x="6588000" y="2470320"/>
              <a:ext cx="1368360" cy="71280"/>
              <a:chOff x="6588000" y="2470320"/>
              <a:chExt cx="1368360" cy="71280"/>
            </a:xfrm>
          </p:grpSpPr>
          <p:sp>
            <p:nvSpPr>
              <p:cNvPr id="689" name=""/>
              <p:cNvSpPr/>
              <p:nvPr/>
            </p:nvSpPr>
            <p:spPr>
              <a:xfrm>
                <a:off x="6588000" y="24703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84720" y="247032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6431040" y="25416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73840" y="254160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754200" y="43988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dpoint of x= -2 and 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5640" y="48308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-2+4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2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x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261200" y="83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996240" y="251604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55640" y="56228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x = 1    y = (1)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2(1) –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338560" y="594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  1  –  2     – 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03640" y="59119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,– 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6804000" y="3176640"/>
            <a:ext cx="936720" cy="410400"/>
            <a:chOff x="6804000" y="3176640"/>
            <a:chExt cx="936720" cy="410400"/>
          </a:xfrm>
        </p:grpSpPr>
        <p:sp>
          <p:nvSpPr>
            <p:cNvPr id="701" name=""/>
            <p:cNvSpPr/>
            <p:nvPr/>
          </p:nvSpPr>
          <p:spPr>
            <a:xfrm>
              <a:off x="7223040" y="317664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04000" y="324972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1,-9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3" dur="indefinite" restart="never" nodeType="tmRoot">
          <p:childTnLst>
            <p:seq>
              <p:cTn id="2594" dur="indefinite" nodeType="mainSeq">
                <p:childTnLst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9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5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5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0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9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7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the period, max and min of each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57120" y="1413000"/>
                <a:ext cx="26305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363840" y="1420920"/>
                <a:ext cx="266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316560" y="1413000"/>
                <a:ext cx="266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4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00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03228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a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c –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600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303228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a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c –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72360" y="213372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26002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303228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–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0920" y="4221000"/>
                <a:ext cx="2558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76720" y="4156200"/>
                <a:ext cx="266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372360" y="4149720"/>
                <a:ext cx="2593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95280" y="479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4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9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264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69592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3 + 1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1 – 3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479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3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2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5264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569592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5 – 2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-2 – 5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10160" y="47721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3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6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10160" y="5238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10160" y="567072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–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2  Sketch y = 12 + 4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6948360" y="765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506920" y="2492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58800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531280" y="2421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14778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Y-intercept when 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95280" y="23414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 X-intercept (roots) when 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95280" y="39974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 Axis of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297480" y="1341000"/>
            <a:ext cx="2306880" cy="1944720"/>
          </a:xfrm>
          <a:custGeom>
            <a:avLst/>
            <a:gdLst/>
            <a:ahLst/>
            <a:rect l="l" t="t" r="r" b="b"/>
            <a:pathLst>
              <a:path w="1452" h="499">
                <a:moveTo>
                  <a:pt x="0" y="0"/>
                </a:moveTo>
                <a:cubicBezTo>
                  <a:pt x="242" y="249"/>
                  <a:pt x="484" y="499"/>
                  <a:pt x="726" y="499"/>
                </a:cubicBezTo>
                <a:cubicBezTo>
                  <a:pt x="968" y="499"/>
                  <a:pt x="1210" y="249"/>
                  <a:pt x="14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95280" y="5294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  Turn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395280" y="907560"/>
            <a:ext cx="4248000" cy="503640"/>
            <a:chOff x="395280" y="907560"/>
            <a:chExt cx="4248000" cy="503640"/>
          </a:xfrm>
        </p:grpSpPr>
        <p:sp>
          <p:nvSpPr>
            <p:cNvPr id="714" name=""/>
            <p:cNvSpPr/>
            <p:nvPr/>
          </p:nvSpPr>
          <p:spPr>
            <a:xfrm>
              <a:off x="395280" y="907920"/>
              <a:ext cx="42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 Shape +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-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84360" y="979200"/>
              <a:ext cx="432000" cy="43200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852720" y="907200"/>
              <a:ext cx="43200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0" y="0"/>
                  </a:moveTo>
                  <a:cubicBezTo>
                    <a:pt x="45" y="136"/>
                    <a:pt x="91" y="272"/>
                    <a:pt x="136" y="272"/>
                  </a:cubicBezTo>
                  <a:cubicBezTo>
                    <a:pt x="181" y="272"/>
                    <a:pt x="226" y="136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826920" y="1916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12 + 0 –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16360" y="19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0,1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6553080" y="1628640"/>
            <a:ext cx="433440" cy="337320"/>
            <a:chOff x="6553080" y="1628640"/>
            <a:chExt cx="433440" cy="337320"/>
          </a:xfrm>
        </p:grpSpPr>
        <p:sp>
          <p:nvSpPr>
            <p:cNvPr id="720" name=""/>
            <p:cNvSpPr/>
            <p:nvPr/>
          </p:nvSpPr>
          <p:spPr>
            <a:xfrm>
              <a:off x="6915240" y="1773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553080" y="1628640"/>
              <a:ext cx="43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826920" y="2708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2 + 4x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x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55640" y="31035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6 – x)(2 + x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55640" y="34639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6 and x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431040" y="2470320"/>
            <a:ext cx="2151000" cy="408600"/>
            <a:chOff x="6431040" y="2470320"/>
            <a:chExt cx="2151000" cy="408600"/>
          </a:xfrm>
        </p:grpSpPr>
        <p:sp>
          <p:nvSpPr>
            <p:cNvPr id="726" name=""/>
            <p:cNvSpPr/>
            <p:nvPr/>
          </p:nvSpPr>
          <p:spPr>
            <a:xfrm>
              <a:off x="6588000" y="24703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45440" y="24703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1040" y="25416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50400" y="25416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754200" y="43988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dpoint of x= -2 and x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55640" y="48308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-2+6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2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451640" y="83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139160" y="2516040"/>
            <a:ext cx="5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55640" y="562284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x = 2    y = 12 + 4(2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2)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38560" y="594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12  + 8     – 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03640" y="59119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2,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7068960" y="981000"/>
            <a:ext cx="936720" cy="382320"/>
            <a:chOff x="7068960" y="981000"/>
            <a:chExt cx="936720" cy="382320"/>
          </a:xfrm>
        </p:grpSpPr>
        <p:sp>
          <p:nvSpPr>
            <p:cNvPr id="738" name=""/>
            <p:cNvSpPr/>
            <p:nvPr/>
          </p:nvSpPr>
          <p:spPr>
            <a:xfrm>
              <a:off x="7416720" y="1290600"/>
              <a:ext cx="712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8960" y="9810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2,16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fill="hold">
                      <p:stCondLst>
                        <p:cond delay="indefinite"/>
                      </p:stCondLst>
                      <p:childTnLst>
                        <p:par>
                          <p:cTn id="2775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8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9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0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8" dur="5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quation of each 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200" y="1066680"/>
            <a:ext cx="5545080" cy="2217600"/>
            <a:chOff x="106200" y="1066680"/>
            <a:chExt cx="5545080" cy="2217600"/>
          </a:xfrm>
        </p:grpSpPr>
        <p:sp>
          <p:nvSpPr>
            <p:cNvPr id="70" name=""/>
            <p:cNvSpPr/>
            <p:nvPr/>
          </p:nvSpPr>
          <p:spPr>
            <a:xfrm>
              <a:off x="127080" y="1457280"/>
              <a:ext cx="5425920" cy="1567080"/>
            </a:xfrm>
            <a:custGeom>
              <a:avLst/>
              <a:gdLst/>
              <a:ahLst/>
              <a:rect l="l" t="t" r="r" b="b"/>
              <a:pathLst>
                <a:path w="385" h="102">
                  <a:moveTo>
                    <a:pt x="0" y="0"/>
                  </a:moveTo>
                  <a:cubicBezTo>
                    <a:pt x="21" y="51"/>
                    <a:pt x="43" y="102"/>
                    <a:pt x="65" y="102"/>
                  </a:cubicBezTo>
                  <a:cubicBezTo>
                    <a:pt x="87" y="102"/>
                    <a:pt x="109" y="0"/>
                    <a:pt x="130" y="0"/>
                  </a:cubicBezTo>
                  <a:cubicBezTo>
                    <a:pt x="151" y="0"/>
                    <a:pt x="171" y="102"/>
                    <a:pt x="192" y="102"/>
                  </a:cubicBezTo>
                  <a:cubicBezTo>
                    <a:pt x="213" y="102"/>
                    <a:pt x="236" y="1"/>
                    <a:pt x="257" y="1"/>
                  </a:cubicBezTo>
                  <a:cubicBezTo>
                    <a:pt x="278" y="1"/>
                    <a:pt x="300" y="102"/>
                    <a:pt x="321" y="102"/>
                  </a:cubicBezTo>
                  <a:cubicBezTo>
                    <a:pt x="342" y="102"/>
                    <a:pt x="363" y="51"/>
                    <a:pt x="385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200" y="1380960"/>
              <a:ext cx="1838520" cy="184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944720" y="119520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49760" y="1380960"/>
              <a:ext cx="1901520" cy="179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42920" y="2239920"/>
              <a:ext cx="355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63920" y="2276640"/>
              <a:ext cx="46044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5720" y="1066680"/>
              <a:ext cx="4590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9240" y="2219400"/>
              <a:ext cx="788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06760" y="2205000"/>
              <a:ext cx="920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50960" y="2852640"/>
              <a:ext cx="7254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00280" y="1284120"/>
              <a:ext cx="6760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24000" y="3645000"/>
            <a:ext cx="6914520" cy="2448000"/>
            <a:chOff x="324000" y="3645000"/>
            <a:chExt cx="6914520" cy="2448000"/>
          </a:xfrm>
        </p:grpSpPr>
        <p:sp>
          <p:nvSpPr>
            <p:cNvPr id="82" name=""/>
            <p:cNvSpPr/>
            <p:nvPr/>
          </p:nvSpPr>
          <p:spPr>
            <a:xfrm>
              <a:off x="388800" y="4076640"/>
              <a:ext cx="6667200" cy="1916280"/>
            </a:xfrm>
            <a:custGeom>
              <a:avLst/>
              <a:gdLst/>
              <a:ahLst/>
              <a:rect l="l" t="t" r="r" b="b"/>
              <a:pathLst>
                <a:path w="575" h="136">
                  <a:moveTo>
                    <a:pt x="0" y="0"/>
                  </a:moveTo>
                  <a:cubicBezTo>
                    <a:pt x="21" y="68"/>
                    <a:pt x="42" y="136"/>
                    <a:pt x="63" y="136"/>
                  </a:cubicBezTo>
                  <a:cubicBezTo>
                    <a:pt x="84" y="136"/>
                    <a:pt x="106" y="0"/>
                    <a:pt x="127" y="0"/>
                  </a:cubicBezTo>
                  <a:cubicBezTo>
                    <a:pt x="148" y="0"/>
                    <a:pt x="171" y="136"/>
                    <a:pt x="192" y="136"/>
                  </a:cubicBezTo>
                  <a:cubicBezTo>
                    <a:pt x="213" y="136"/>
                    <a:pt x="235" y="0"/>
                    <a:pt x="256" y="0"/>
                  </a:cubicBezTo>
                  <a:cubicBezTo>
                    <a:pt x="277" y="0"/>
                    <a:pt x="299" y="136"/>
                    <a:pt x="320" y="136"/>
                  </a:cubicBezTo>
                  <a:cubicBezTo>
                    <a:pt x="341" y="136"/>
                    <a:pt x="364" y="0"/>
                    <a:pt x="385" y="0"/>
                  </a:cubicBezTo>
                  <a:cubicBezTo>
                    <a:pt x="406" y="0"/>
                    <a:pt x="427" y="136"/>
                    <a:pt x="448" y="136"/>
                  </a:cubicBezTo>
                  <a:cubicBezTo>
                    <a:pt x="469" y="136"/>
                    <a:pt x="491" y="1"/>
                    <a:pt x="512" y="1"/>
                  </a:cubicBezTo>
                  <a:cubicBezTo>
                    <a:pt x="533" y="1"/>
                    <a:pt x="554" y="68"/>
                    <a:pt x="575" y="1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005360"/>
              <a:ext cx="1142640" cy="20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477800" y="3860640"/>
              <a:ext cx="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56080" y="4005360"/>
              <a:ext cx="2782440" cy="20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6880" y="5057640"/>
              <a:ext cx="41396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8440" y="5014800"/>
              <a:ext cx="4600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92240" y="3645000"/>
              <a:ext cx="458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1760" y="5100480"/>
              <a:ext cx="53604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73640" y="5084640"/>
              <a:ext cx="993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9240" y="3933720"/>
              <a:ext cx="8661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92240" y="5748480"/>
              <a:ext cx="458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6000" y="83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1197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155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16520" y="2492280"/>
                <a:ext cx="1722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796000" y="19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s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40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45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4365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4726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419880" y="5661000"/>
                <a:ext cx="1668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372360" y="5121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quation of each 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1069920"/>
            <a:ext cx="5425920" cy="1567080"/>
          </a:xfrm>
          <a:custGeom>
            <a:avLst/>
            <a:gdLst/>
            <a:ahLst/>
            <a:rect l="l" t="t" r="r" b="b"/>
            <a:pathLst>
              <a:path w="385" h="102">
                <a:moveTo>
                  <a:pt x="0" y="0"/>
                </a:moveTo>
                <a:cubicBezTo>
                  <a:pt x="21" y="51"/>
                  <a:pt x="43" y="102"/>
                  <a:pt x="65" y="102"/>
                </a:cubicBezTo>
                <a:cubicBezTo>
                  <a:pt x="87" y="102"/>
                  <a:pt x="109" y="0"/>
                  <a:pt x="130" y="0"/>
                </a:cubicBezTo>
                <a:cubicBezTo>
                  <a:pt x="151" y="0"/>
                  <a:pt x="171" y="102"/>
                  <a:pt x="192" y="102"/>
                </a:cubicBezTo>
                <a:cubicBezTo>
                  <a:pt x="213" y="102"/>
                  <a:pt x="236" y="1"/>
                  <a:pt x="257" y="1"/>
                </a:cubicBezTo>
                <a:cubicBezTo>
                  <a:pt x="278" y="1"/>
                  <a:pt x="300" y="102"/>
                  <a:pt x="321" y="102"/>
                </a:cubicBezTo>
                <a:cubicBezTo>
                  <a:pt x="342" y="102"/>
                  <a:pt x="363" y="51"/>
                  <a:pt x="385" y="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200" y="1052640"/>
            <a:ext cx="1838520" cy="18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908000" y="836640"/>
            <a:ext cx="367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4840" y="907920"/>
            <a:ext cx="1901880" cy="17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263700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2652840"/>
            <a:ext cx="460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620640"/>
            <a:ext cx="459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2637000"/>
            <a:ext cx="789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06760" y="2637000"/>
            <a:ext cx="920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85880" y="2565360"/>
            <a:ext cx="725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907920"/>
            <a:ext cx="676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800" y="4437000"/>
            <a:ext cx="6667560" cy="1916280"/>
          </a:xfrm>
          <a:custGeom>
            <a:avLst/>
            <a:gdLst/>
            <a:ahLst/>
            <a:rect l="l" t="t" r="r" b="b"/>
            <a:pathLst>
              <a:path w="575" h="136">
                <a:moveTo>
                  <a:pt x="0" y="0"/>
                </a:moveTo>
                <a:cubicBezTo>
                  <a:pt x="21" y="68"/>
                  <a:pt x="42" y="136"/>
                  <a:pt x="63" y="136"/>
                </a:cubicBezTo>
                <a:cubicBezTo>
                  <a:pt x="84" y="136"/>
                  <a:pt x="106" y="0"/>
                  <a:pt x="127" y="0"/>
                </a:cubicBezTo>
                <a:cubicBezTo>
                  <a:pt x="148" y="0"/>
                  <a:pt x="171" y="136"/>
                  <a:pt x="192" y="136"/>
                </a:cubicBezTo>
                <a:cubicBezTo>
                  <a:pt x="213" y="136"/>
                  <a:pt x="235" y="0"/>
                  <a:pt x="256" y="0"/>
                </a:cubicBezTo>
                <a:cubicBezTo>
                  <a:pt x="277" y="0"/>
                  <a:pt x="299" y="136"/>
                  <a:pt x="320" y="136"/>
                </a:cubicBezTo>
                <a:cubicBezTo>
                  <a:pt x="341" y="136"/>
                  <a:pt x="364" y="0"/>
                  <a:pt x="385" y="0"/>
                </a:cubicBezTo>
                <a:cubicBezTo>
                  <a:pt x="406" y="0"/>
                  <a:pt x="427" y="136"/>
                  <a:pt x="448" y="136"/>
                </a:cubicBezTo>
                <a:cubicBezTo>
                  <a:pt x="469" y="136"/>
                  <a:pt x="491" y="1"/>
                  <a:pt x="512" y="1"/>
                </a:cubicBezTo>
                <a:cubicBezTo>
                  <a:pt x="533" y="1"/>
                  <a:pt x="554" y="68"/>
                  <a:pt x="575" y="1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365720"/>
            <a:ext cx="11430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477800" y="3860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56080" y="4365720"/>
            <a:ext cx="27828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6880" y="5057640"/>
            <a:ext cx="414000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78440" y="5014800"/>
            <a:ext cx="460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92240" y="3645000"/>
            <a:ext cx="458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1760" y="5100480"/>
            <a:ext cx="75060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73640" y="5084640"/>
            <a:ext cx="993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9240" y="4379760"/>
            <a:ext cx="86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92240" y="6165720"/>
            <a:ext cx="458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3080" y="83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2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3080" y="1197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3080" y="155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459400" y="2492280"/>
                <a:ext cx="2152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3080" y="19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s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0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4365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726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191280" y="5661000"/>
                <a:ext cx="2125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6372360" y="5121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844640"/>
            <a:ext cx="3960720" cy="0"/>
          </a:xfrm>
          <a:prstGeom prst="line">
            <a:avLst/>
          </a:prstGeom>
          <a:ln w="936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5445000"/>
            <a:ext cx="3960720" cy="0"/>
          </a:xfrm>
          <a:prstGeom prst="line">
            <a:avLst/>
          </a:prstGeom>
          <a:ln w="936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quation of each 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200" y="1052640"/>
            <a:ext cx="1838520" cy="18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3080" y="83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18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3080" y="1197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3080" y="1557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862600" y="2492280"/>
                <a:ext cx="1344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653080" y="19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n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40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90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4365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726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284880" y="5661000"/>
                <a:ext cx="1938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372360" y="5121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n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092240" y="1125360"/>
            <a:ext cx="3767040" cy="2448000"/>
            <a:chOff x="1092240" y="1125360"/>
            <a:chExt cx="3767040" cy="2448000"/>
          </a:xfrm>
        </p:grpSpPr>
        <p:sp>
          <p:nvSpPr>
            <p:cNvPr id="151" name=""/>
            <p:cNvSpPr/>
            <p:nvPr/>
          </p:nvSpPr>
          <p:spPr>
            <a:xfrm flipV="1">
              <a:off x="1563840" y="1452240"/>
              <a:ext cx="1440" cy="17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92240" y="2430360"/>
              <a:ext cx="3295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2240" y="1452600"/>
              <a:ext cx="941400" cy="1793880"/>
            </a:xfrm>
            <a:custGeom>
              <a:avLst/>
              <a:gdLst/>
              <a:ahLst/>
              <a:rect l="l" t="t" r="r" b="b"/>
              <a:pathLst>
                <a:path w="1086" h="1991">
                  <a:moveTo>
                    <a:pt x="0" y="1991"/>
                  </a:moveTo>
                  <a:cubicBezTo>
                    <a:pt x="15" y="1719"/>
                    <a:pt x="30" y="1448"/>
                    <a:pt x="181" y="1267"/>
                  </a:cubicBezTo>
                  <a:cubicBezTo>
                    <a:pt x="332" y="1086"/>
                    <a:pt x="754" y="1116"/>
                    <a:pt x="905" y="905"/>
                  </a:cubicBezTo>
                  <a:cubicBezTo>
                    <a:pt x="1056" y="694"/>
                    <a:pt x="1071" y="347"/>
                    <a:pt x="108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35080" y="1452600"/>
              <a:ext cx="941400" cy="1793880"/>
            </a:xfrm>
            <a:custGeom>
              <a:avLst/>
              <a:gdLst/>
              <a:ahLst/>
              <a:rect l="l" t="t" r="r" b="b"/>
              <a:pathLst>
                <a:path w="1086" h="1991">
                  <a:moveTo>
                    <a:pt x="0" y="1991"/>
                  </a:moveTo>
                  <a:cubicBezTo>
                    <a:pt x="15" y="1719"/>
                    <a:pt x="30" y="1448"/>
                    <a:pt x="181" y="1267"/>
                  </a:cubicBezTo>
                  <a:cubicBezTo>
                    <a:pt x="332" y="1086"/>
                    <a:pt x="754" y="1116"/>
                    <a:pt x="905" y="905"/>
                  </a:cubicBezTo>
                  <a:cubicBezTo>
                    <a:pt x="1056" y="694"/>
                    <a:pt x="1071" y="347"/>
                    <a:pt x="108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76480" y="1452600"/>
              <a:ext cx="941400" cy="1793880"/>
            </a:xfrm>
            <a:custGeom>
              <a:avLst/>
              <a:gdLst/>
              <a:ahLst/>
              <a:rect l="l" t="t" r="r" b="b"/>
              <a:pathLst>
                <a:path w="1086" h="1991">
                  <a:moveTo>
                    <a:pt x="0" y="1991"/>
                  </a:moveTo>
                  <a:cubicBezTo>
                    <a:pt x="15" y="1719"/>
                    <a:pt x="30" y="1448"/>
                    <a:pt x="181" y="1267"/>
                  </a:cubicBezTo>
                  <a:cubicBezTo>
                    <a:pt x="332" y="1086"/>
                    <a:pt x="754" y="1116"/>
                    <a:pt x="905" y="905"/>
                  </a:cubicBezTo>
                  <a:cubicBezTo>
                    <a:pt x="1056" y="694"/>
                    <a:pt x="1071" y="347"/>
                    <a:pt x="108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2160" y="2430360"/>
              <a:ext cx="6271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49200" y="1125360"/>
              <a:ext cx="62712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52760" y="2408400"/>
              <a:ext cx="626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5240" y="2430360"/>
              <a:ext cx="6267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7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46640" y="2430360"/>
              <a:ext cx="6285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033640" y="1289160"/>
              <a:ext cx="1440" cy="2284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76480" y="1289160"/>
              <a:ext cx="0" cy="2284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7880" y="1289160"/>
              <a:ext cx="0" cy="2284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1371600" y="4115880"/>
            <a:ext cx="1440" cy="17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5094360"/>
            <a:ext cx="329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4508640"/>
            <a:ext cx="941400" cy="1793880"/>
          </a:xfrm>
          <a:custGeom>
            <a:avLst/>
            <a:gdLst/>
            <a:ahLst/>
            <a:rect l="l" t="t" r="r" b="b"/>
            <a:pathLst>
              <a:path w="1086" h="1991">
                <a:moveTo>
                  <a:pt x="0" y="1991"/>
                </a:moveTo>
                <a:cubicBezTo>
                  <a:pt x="15" y="1719"/>
                  <a:pt x="30" y="1448"/>
                  <a:pt x="181" y="1267"/>
                </a:cubicBezTo>
                <a:cubicBezTo>
                  <a:pt x="332" y="1086"/>
                  <a:pt x="754" y="1116"/>
                  <a:pt x="905" y="905"/>
                </a:cubicBezTo>
                <a:cubicBezTo>
                  <a:pt x="1056" y="694"/>
                  <a:pt x="1071" y="347"/>
                  <a:pt x="108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3200" y="4508640"/>
            <a:ext cx="941400" cy="1793880"/>
          </a:xfrm>
          <a:custGeom>
            <a:avLst/>
            <a:gdLst/>
            <a:ahLst/>
            <a:rect l="l" t="t" r="r" b="b"/>
            <a:pathLst>
              <a:path w="1086" h="1991">
                <a:moveTo>
                  <a:pt x="0" y="1991"/>
                </a:moveTo>
                <a:cubicBezTo>
                  <a:pt x="15" y="1719"/>
                  <a:pt x="30" y="1448"/>
                  <a:pt x="181" y="1267"/>
                </a:cubicBezTo>
                <a:cubicBezTo>
                  <a:pt x="332" y="1086"/>
                  <a:pt x="754" y="1116"/>
                  <a:pt x="905" y="905"/>
                </a:cubicBezTo>
                <a:cubicBezTo>
                  <a:pt x="1056" y="694"/>
                  <a:pt x="1071" y="347"/>
                  <a:pt x="108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84600" y="4514760"/>
            <a:ext cx="941400" cy="1793880"/>
          </a:xfrm>
          <a:custGeom>
            <a:avLst/>
            <a:gdLst/>
            <a:ahLst/>
            <a:rect l="l" t="t" r="r" b="b"/>
            <a:pathLst>
              <a:path w="1086" h="1991">
                <a:moveTo>
                  <a:pt x="0" y="1991"/>
                </a:moveTo>
                <a:cubicBezTo>
                  <a:pt x="15" y="1719"/>
                  <a:pt x="30" y="1448"/>
                  <a:pt x="181" y="1267"/>
                </a:cubicBezTo>
                <a:cubicBezTo>
                  <a:pt x="332" y="1086"/>
                  <a:pt x="754" y="1116"/>
                  <a:pt x="905" y="905"/>
                </a:cubicBezTo>
                <a:cubicBezTo>
                  <a:pt x="1056" y="694"/>
                  <a:pt x="1071" y="347"/>
                  <a:pt x="108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05240" y="5094360"/>
            <a:ext cx="627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57320" y="3789360"/>
            <a:ext cx="627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84520" y="5084640"/>
            <a:ext cx="6267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5094360"/>
            <a:ext cx="627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6160" y="5094360"/>
            <a:ext cx="628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841040" y="4097160"/>
            <a:ext cx="1800" cy="228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84600" y="4097160"/>
            <a:ext cx="0" cy="228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46520" y="4097160"/>
            <a:ext cx="0" cy="228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5516640"/>
            <a:ext cx="4319280" cy="0"/>
          </a:xfrm>
          <a:prstGeom prst="line">
            <a:avLst/>
          </a:prstGeom>
          <a:ln w="936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5342040"/>
            <a:ext cx="626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ketch the following graphs for 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3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09680" y="981000"/>
                <a:ext cx="22399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794200" y="907920"/>
                <a:ext cx="2381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95280" y="155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2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8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20239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15494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 = 360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1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80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2016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mplitude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2448000"/>
            <a:ext cx="324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 = 5 – 1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in = -1 – 5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31956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se line =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0920" y="3500280"/>
            <a:ext cx="4321080" cy="2376720"/>
            <a:chOff x="250920" y="3500280"/>
            <a:chExt cx="4321080" cy="2376720"/>
          </a:xfrm>
        </p:grpSpPr>
        <p:sp>
          <p:nvSpPr>
            <p:cNvPr id="189" name=""/>
            <p:cNvSpPr/>
            <p:nvPr/>
          </p:nvSpPr>
          <p:spPr>
            <a:xfrm flipV="1">
              <a:off x="755640" y="3645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0920" y="486900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4360" y="48625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8360" y="3500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116000" y="4797360"/>
            <a:ext cx="1079640" cy="216000"/>
            <a:chOff x="1116000" y="4797360"/>
            <a:chExt cx="1079640" cy="216000"/>
          </a:xfrm>
        </p:grpSpPr>
        <p:sp>
          <p:nvSpPr>
            <p:cNvPr id="194" name=""/>
            <p:cNvSpPr/>
            <p:nvPr/>
          </p:nvSpPr>
          <p:spPr>
            <a:xfrm>
              <a:off x="111600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7636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3528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564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556000" y="4797360"/>
            <a:ext cx="1079280" cy="216000"/>
            <a:chOff x="2556000" y="4797360"/>
            <a:chExt cx="1079280" cy="216000"/>
          </a:xfrm>
        </p:grpSpPr>
        <p:sp>
          <p:nvSpPr>
            <p:cNvPr id="199" name=""/>
            <p:cNvSpPr/>
            <p:nvPr/>
          </p:nvSpPr>
          <p:spPr>
            <a:xfrm>
              <a:off x="255600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1600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7492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35280" y="4797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68360" y="3782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494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494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09560" y="48301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74760" y="48301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438200" y="483948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069920" y="3933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797120" y="57762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602160" y="48427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82880" y="48427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30440" y="3933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55840" y="573264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83280" y="5157720"/>
            <a:ext cx="1513080" cy="144360"/>
            <a:chOff x="6083280" y="5157720"/>
            <a:chExt cx="1513080" cy="144360"/>
          </a:xfrm>
        </p:grpSpPr>
        <p:sp>
          <p:nvSpPr>
            <p:cNvPr id="217" name=""/>
            <p:cNvSpPr/>
            <p:nvPr/>
          </p:nvSpPr>
          <p:spPr>
            <a:xfrm>
              <a:off x="6083280" y="5157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88360" y="5157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91280" y="5157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96360" y="5157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148360" y="5373720"/>
            <a:ext cx="2808360" cy="0"/>
          </a:xfrm>
          <a:prstGeom prst="line">
            <a:avLst/>
          </a:prstGeom>
          <a:ln w="9360">
            <a:solidFill>
              <a:srgbClr val="ff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4430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0720" y="5373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08720" y="45806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562880" y="45806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550200" y="609300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0440" y="53348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054920" y="53380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4920" y="3944880"/>
            <a:ext cx="3811680" cy="2147760"/>
            <a:chOff x="34920" y="3944880"/>
            <a:chExt cx="3811680" cy="2147760"/>
          </a:xfrm>
        </p:grpSpPr>
        <p:sp>
          <p:nvSpPr>
            <p:cNvPr id="231" name=""/>
            <p:cNvSpPr/>
            <p:nvPr/>
          </p:nvSpPr>
          <p:spPr>
            <a:xfrm>
              <a:off x="319320" y="3944880"/>
              <a:ext cx="3527280" cy="2063520"/>
            </a:xfrm>
            <a:custGeom>
              <a:avLst/>
              <a:gdLst/>
              <a:ahLst/>
              <a:rect l="l" t="t" r="r" b="b"/>
              <a:pathLst>
                <a:path w="2222" h="1300">
                  <a:moveTo>
                    <a:pt x="0" y="959"/>
                  </a:moveTo>
                  <a:cubicBezTo>
                    <a:pt x="4" y="1129"/>
                    <a:pt x="8" y="1300"/>
                    <a:pt x="91" y="1141"/>
                  </a:cubicBezTo>
                  <a:cubicBezTo>
                    <a:pt x="174" y="982"/>
                    <a:pt x="356" y="0"/>
                    <a:pt x="499" y="7"/>
                  </a:cubicBezTo>
                  <a:cubicBezTo>
                    <a:pt x="642" y="14"/>
                    <a:pt x="801" y="1186"/>
                    <a:pt x="952" y="1186"/>
                  </a:cubicBezTo>
                  <a:cubicBezTo>
                    <a:pt x="1103" y="1186"/>
                    <a:pt x="1255" y="14"/>
                    <a:pt x="1406" y="7"/>
                  </a:cubicBezTo>
                  <a:cubicBezTo>
                    <a:pt x="1557" y="0"/>
                    <a:pt x="1724" y="1141"/>
                    <a:pt x="1860" y="1141"/>
                  </a:cubicBezTo>
                  <a:cubicBezTo>
                    <a:pt x="1996" y="1141"/>
                    <a:pt x="2109" y="574"/>
                    <a:pt x="2222" y="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20" y="5445000"/>
              <a:ext cx="39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32360" y="4437000"/>
            <a:ext cx="3311280" cy="1715760"/>
            <a:chOff x="4932360" y="4437000"/>
            <a:chExt cx="3311280" cy="1715760"/>
          </a:xfrm>
        </p:grpSpPr>
        <p:sp>
          <p:nvSpPr>
            <p:cNvPr id="234" name=""/>
            <p:cNvSpPr/>
            <p:nvPr/>
          </p:nvSpPr>
          <p:spPr>
            <a:xfrm>
              <a:off x="4932360" y="4509720"/>
              <a:ext cx="3139200" cy="1643040"/>
            </a:xfrm>
            <a:custGeom>
              <a:avLst/>
              <a:gdLst/>
              <a:ahLst/>
              <a:rect l="l" t="t" r="r" b="b"/>
              <a:pathLst>
                <a:path w="2064" h="1035">
                  <a:moveTo>
                    <a:pt x="23" y="582"/>
                  </a:moveTo>
                  <a:cubicBezTo>
                    <a:pt x="11" y="600"/>
                    <a:pt x="0" y="619"/>
                    <a:pt x="68" y="536"/>
                  </a:cubicBezTo>
                  <a:cubicBezTo>
                    <a:pt x="136" y="453"/>
                    <a:pt x="265" y="0"/>
                    <a:pt x="431" y="83"/>
                  </a:cubicBezTo>
                  <a:cubicBezTo>
                    <a:pt x="597" y="166"/>
                    <a:pt x="854" y="1035"/>
                    <a:pt x="1066" y="1035"/>
                  </a:cubicBezTo>
                  <a:cubicBezTo>
                    <a:pt x="1278" y="1035"/>
                    <a:pt x="1535" y="158"/>
                    <a:pt x="1701" y="83"/>
                  </a:cubicBezTo>
                  <a:cubicBezTo>
                    <a:pt x="1867" y="8"/>
                    <a:pt x="1965" y="295"/>
                    <a:pt x="2064" y="5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32360" y="4725720"/>
              <a:ext cx="41328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30000" y="4437000"/>
              <a:ext cx="41364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380360" y="5373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148360" y="3860640"/>
            <a:ext cx="3455640" cy="2376720"/>
            <a:chOff x="5148360" y="3860640"/>
            <a:chExt cx="3455640" cy="2376720"/>
          </a:xfrm>
        </p:grpSpPr>
        <p:sp>
          <p:nvSpPr>
            <p:cNvPr id="239" name=""/>
            <p:cNvSpPr/>
            <p:nvPr/>
          </p:nvSpPr>
          <p:spPr>
            <a:xfrm flipV="1">
              <a:off x="5551920" y="4005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48360" y="5229360"/>
              <a:ext cx="305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86320" y="5222880"/>
              <a:ext cx="51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22240" y="3860640"/>
              <a:ext cx="51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04000" y="558792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04000" y="457992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95640" y="4508640"/>
            <a:ext cx="1152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4005360"/>
            <a:ext cx="1152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3213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4920" y="2637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following Trig equations for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8360" y="1197000"/>
                <a:ext cx="1800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076720" y="1197000"/>
                <a:ext cx="180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17480" y="1803240"/>
                <a:ext cx="126216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22280" y="2700360"/>
                <a:ext cx="1773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627280" y="2637000"/>
            <a:ext cx="1079640" cy="1008000"/>
            <a:chOff x="2627280" y="2637000"/>
            <a:chExt cx="1079640" cy="1008000"/>
          </a:xfrm>
        </p:grpSpPr>
        <p:sp>
          <p:nvSpPr>
            <p:cNvPr id="255" name=""/>
            <p:cNvSpPr/>
            <p:nvPr/>
          </p:nvSpPr>
          <p:spPr>
            <a:xfrm>
              <a:off x="313056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27280" y="31417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5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7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75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8480" y="4078440"/>
                <a:ext cx="1020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185920" y="4081320"/>
                <a:ext cx="1665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858080" y="3213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97840" y="3213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05240" y="1844640"/>
                <a:ext cx="1449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029200" y="2741760"/>
                <a:ext cx="172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7" name=""/>
          <p:cNvGrpSpPr/>
          <p:nvPr/>
        </p:nvGrpSpPr>
        <p:grpSpPr>
          <a:xfrm>
            <a:off x="7209000" y="2637000"/>
            <a:ext cx="1079280" cy="1008000"/>
            <a:chOff x="7209000" y="2637000"/>
            <a:chExt cx="1079280" cy="1008000"/>
          </a:xfrm>
        </p:grpSpPr>
        <p:sp>
          <p:nvSpPr>
            <p:cNvPr id="268" name=""/>
            <p:cNvSpPr/>
            <p:nvPr/>
          </p:nvSpPr>
          <p:spPr>
            <a:xfrm>
              <a:off x="771192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09000" y="31417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5664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0900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09000" y="32068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56640" y="32068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148360" y="4079880"/>
                <a:ext cx="1234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780240" y="412272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791400" y="5160960"/>
                <a:ext cx="1665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588000" y="616428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3280" y="616572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508464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465300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450864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4005360"/>
            <a:ext cx="12236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78560" y="38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26560" y="38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32115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4920" y="2637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following Trig equations for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60360" y="1143000"/>
                <a:ext cx="2016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10120" y="981000"/>
                <a:ext cx="1933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11280" y="1776240"/>
                <a:ext cx="1476360" cy="8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28680" y="2673360"/>
                <a:ext cx="1962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2627280" y="2637000"/>
            <a:ext cx="1079640" cy="1008000"/>
            <a:chOff x="2627280" y="2637000"/>
            <a:chExt cx="1079640" cy="1008000"/>
          </a:xfrm>
        </p:grpSpPr>
        <p:sp>
          <p:nvSpPr>
            <p:cNvPr id="293" name=""/>
            <p:cNvSpPr/>
            <p:nvPr/>
          </p:nvSpPr>
          <p:spPr>
            <a:xfrm>
              <a:off x="313056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27280" y="31417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75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27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27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75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98480" y="4078440"/>
                <a:ext cx="1020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198520" y="408132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7378560" y="3284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26560" y="3284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245200" y="1341360"/>
                <a:ext cx="1368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21200" y="3238560"/>
                <a:ext cx="1936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5" name=""/>
          <p:cNvGrpSpPr/>
          <p:nvPr/>
        </p:nvGrpSpPr>
        <p:grpSpPr>
          <a:xfrm>
            <a:off x="7380360" y="3284640"/>
            <a:ext cx="1079280" cy="1008000"/>
            <a:chOff x="7380360" y="3284640"/>
            <a:chExt cx="1079280" cy="1008000"/>
          </a:xfrm>
        </p:grpSpPr>
        <p:sp>
          <p:nvSpPr>
            <p:cNvPr id="306" name=""/>
            <p:cNvSpPr/>
            <p:nvPr/>
          </p:nvSpPr>
          <p:spPr>
            <a:xfrm>
              <a:off x="7883280" y="3284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80360" y="378936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8000" y="3284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80360" y="3284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80360" y="3854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28000" y="3854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846680" y="4695840"/>
                <a:ext cx="1020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462720" y="465300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643280" y="573732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229360" y="2109960"/>
                <a:ext cx="2655720" cy="94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575400" y="5734080"/>
                <a:ext cx="1665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0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588000" y="585000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585144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4770360"/>
            <a:ext cx="122400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16360" y="433872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08000" y="551664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4437000"/>
            <a:ext cx="122400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78560" y="3546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026560" y="3546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3213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27280" y="2637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following Trig equations for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80960" y="1197000"/>
                <a:ext cx="1773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089680" y="981000"/>
                <a:ext cx="1773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23880" y="1803240"/>
                <a:ext cx="144936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49280" y="2698920"/>
                <a:ext cx="17208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2627280" y="2637000"/>
            <a:ext cx="1079640" cy="1008000"/>
            <a:chOff x="2627280" y="2637000"/>
            <a:chExt cx="1079640" cy="1008000"/>
          </a:xfrm>
        </p:grpSpPr>
        <p:sp>
          <p:nvSpPr>
            <p:cNvPr id="333" name=""/>
            <p:cNvSpPr/>
            <p:nvPr/>
          </p:nvSpPr>
          <p:spPr>
            <a:xfrm>
              <a:off x="313056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27280" y="31417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75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27280" y="26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27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5280" y="32068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3520" y="4038480"/>
                <a:ext cx="1182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920960" y="4005360"/>
                <a:ext cx="1611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2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7378560" y="2970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026560" y="2970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270400" y="1542960"/>
                <a:ext cx="1316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002200" y="3205080"/>
                <a:ext cx="1774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5" name=""/>
          <p:cNvGrpSpPr/>
          <p:nvPr/>
        </p:nvGrpSpPr>
        <p:grpSpPr>
          <a:xfrm>
            <a:off x="7380360" y="2970360"/>
            <a:ext cx="1079280" cy="1008000"/>
            <a:chOff x="7380360" y="2970360"/>
            <a:chExt cx="1079280" cy="1008000"/>
          </a:xfrm>
        </p:grpSpPr>
        <p:sp>
          <p:nvSpPr>
            <p:cNvPr id="346" name=""/>
            <p:cNvSpPr/>
            <p:nvPr/>
          </p:nvSpPr>
          <p:spPr>
            <a:xfrm>
              <a:off x="7883280" y="2970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80360" y="34750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28000" y="2970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0360" y="2970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80360" y="35402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28000" y="35402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846680" y="4381560"/>
                <a:ext cx="1020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462720" y="433872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43280" y="542304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338800" y="2205000"/>
                <a:ext cx="16095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75400" y="5419800"/>
                <a:ext cx="1665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908000" y="5089680"/>
                <a:ext cx="163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42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8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3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2:52:07Z</dcterms:created>
  <dc:creator/>
  <dc:description/>
  <dc:language>en-US</dc:language>
  <cp:lastModifiedBy/>
  <dcterms:modified xsi:type="dcterms:W3CDTF">2008-01-17T14:48:22Z</dcterms:modified>
  <cp:revision>44</cp:revision>
  <dc:subject/>
  <dc:title>Further Trigonometry</dc:title>
</cp:coreProperties>
</file>